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3C62-8292-4A21-AF0F-520995CBC1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1F17-7842-4162-81F1-0D19AC952C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328-AC7B-466F-B25A-30F87EC3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BD6-846D-416E-85B0-23536AEC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2CA-D431-4AEA-B9C5-1070F39E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770-8E0C-4514-A13D-7523158F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32F-797B-4E8E-9AAB-9F2EF44C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CF0-40D0-4D2D-BA63-5CEB9E1D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893-2085-42DF-AE9E-67E13954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9B5-CDB4-4B07-ACAA-261423A6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C2A-95EE-4B68-8CD7-17BBDD22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B7F-6864-4032-A54D-DC9C775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AD7-439C-4D89-AFBE-A721930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896-761C-41FC-9FC7-AE4E520E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05F6-CFBE-4339-83E4-BAE8838619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6995" TargetMode="External"/><Relationship Id="rId2" Type="http://schemas.openxmlformats.org/officeDocument/2006/relationships/hyperlink" Target="http://class-fizika.narod.ru/9_19.htm" TargetMode="External"/><Relationship Id="rId3" Type="http://schemas.openxmlformats.org/officeDocument/2006/relationships/hyperlink" Target="http://www.youtube.com/watch?v=YBvudovcuUY" TargetMode="External"/><Relationship Id="rId4" Type="http://schemas.openxmlformats.org/officeDocument/2006/relationships/hyperlink" Target="http://www.alleng.ru/d/phys/phys_ege-tr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4"/>
          <p:cNvSpPr/>
          <p:nvPr/>
        </p:nvSpPr>
        <p:spPr>
          <a:xfrm>
            <a:off x="857160" y="2143080"/>
            <a:ext cx="7786800" cy="2071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мпуль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акон сохранения импуль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928880" y="50004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физики в 10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1857240" y="4786200"/>
            <a:ext cx="557244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Николаевской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ушкин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звестна старинная легенда о богаче с мешком золотых, который, оказавшись на абсолютно гладком льду озера, замерз, но не пожелал расстаться с богатством. А ведь он мог спастись, если бы не был так жад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Достаточно было оттолкнуть от себя мешок с золотом, и богач сам заскользил бы по льду в противоположную сторону по закону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 как бы ты поступил на его мес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1280" y="2651760"/>
            <a:ext cx="6741000" cy="14832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35712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асть 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горизонтальной поверхности находится тележка массой 20 кг, на которой стоит человек массой 60 кг. Человек начинает двигаться вдоль тележки с постоянной скоростью, тележка при этом начинает катиться без трения. Модуль скорости тележки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00040" y="3071880"/>
            <a:ext cx="8072640" cy="314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ен модулю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как больше, так и меньше модуля скорости человека относительно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2357280" y="3071880"/>
            <a:ext cx="3857760" cy="27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8584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Легковой автомобиль и грузовик движутся со скоростям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108 км/ч 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54 км/ч соответственно. Их массы соответствен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1000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г и      = 3000 кг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сколько импульс  грузовика больше импульса легкового автомобиля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99840" y="3143160"/>
            <a:ext cx="3714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1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6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Содержимое 4"/>
              <p:cNvSpPr txBox="1"/>
              <p:nvPr/>
            </p:nvSpPr>
            <p:spPr>
              <a:xfrm>
                <a:off x="4143240" y="1214280"/>
                <a:ext cx="500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143760" y="1214280"/>
                <a:ext cx="53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357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а ша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ой массой        движу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инаковыми по моду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ями вдоль горизо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тел, включающей 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ика, проекция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нуля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м случае на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и второго шарика должно совпадать с направлени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ным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Содержимое 4"/>
              <p:cNvSpPr txBox="1"/>
              <p:nvPr/>
            </p:nvSpPr>
            <p:spPr>
              <a:xfrm>
                <a:off x="3071880" y="714240"/>
                <a:ext cx="500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52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3"/>
          <p:cNvSpPr/>
          <p:nvPr/>
        </p:nvSpPr>
        <p:spPr>
          <a:xfrm>
            <a:off x="714240" y="3571920"/>
            <a:ext cx="2000520" cy="235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357120" y="500040"/>
            <a:ext cx="842976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999880"/>
            <a:ext cx="1971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ь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Шар скользит по столу и налетает на второй такой же покоящийся шар. Ученики изобразили векторы импульсов шаров до соударения (верхняя часть рисунка) и после него (нижняя часть рисунка). Какой рисунок выполнен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3000240" y="2786040"/>
            <a:ext cx="58104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8"/>
          <p:cNvSpPr/>
          <p:nvPr/>
        </p:nvSpPr>
        <p:spPr>
          <a:xfrm>
            <a:off x="285840" y="3714840"/>
            <a:ext cx="385740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285840" y="357120"/>
            <a:ext cx="642924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428760"/>
            <a:ext cx="678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 гладкой горизонталь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движутся два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ми      и      со скоростями    и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соударен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паются и движутся как еди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ое. Проекция импульса эт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ь Ох после соударения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70254" t="0" r="0" b="21301"/>
          <a:stretch/>
        </p:blipFill>
        <p:spPr>
          <a:xfrm>
            <a:off x="6662880" y="357120"/>
            <a:ext cx="2350800" cy="32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857240" y="1357200"/>
                <a:ext cx="373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571840" y="1357200"/>
                <a:ext cx="39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73640" y="1357200"/>
                <a:ext cx="298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5786280" y="1357200"/>
                <a:ext cx="347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Содержимое 2"/>
          <p:cNvSpPr/>
          <p:nvPr/>
        </p:nvSpPr>
        <p:spPr>
          <a:xfrm>
            <a:off x="285840" y="3500280"/>
            <a:ext cx="8001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57120" y="3786120"/>
            <a:ext cx="3714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2143080" y="378612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2214720" y="4214880"/>
                <a:ext cx="76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1857240" y="4643280"/>
                <a:ext cx="706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2857680" y="4643280"/>
                <a:ext cx="765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2143080" y="507204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39-41 (Мякишев Г.Я. Физика.10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.8(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ст, состоящий из заданий части А ЕГЭ по теме «Импульс. Закон сохранения импульса»(3-5 задан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1643040" y="274680"/>
            <a:ext cx="6000840" cy="115416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чевская О.В. Физика в таблицах и схемах.- Издательский дом «Литера»,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3699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шаблон для презент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class-fizika.narod.ru/9_19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youtube.com/watch?v=YBvudovcu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www.alleng.ru/d/phys/phys_ege-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1285920"/>
            <a:ext cx="8258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Ньютона выполняются в инерциальных системах отс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приложена к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тела всегда направлен 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тела обратно пропорционально массе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рения зависит от площади соприкасающихся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– величина векто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имеет электромагнитную прир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реакции опоры –это сила упруг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000160" y="28584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дание с ключ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1643040" y="564372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твет:  10010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428760" y="1571760"/>
            <a:ext cx="2714400" cy="10000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действ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я силы за некотор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7600" y="342000"/>
            <a:ext cx="531684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си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Содержимое 10"/>
              <p:cNvSpPr txBox="1"/>
              <p:nvPr/>
            </p:nvSpPr>
            <p:spPr>
              <a:xfrm>
                <a:off x="3214800" y="1785960"/>
                <a:ext cx="132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14240" y="30718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714240" y="371484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785880" y="4143240"/>
                <a:ext cx="344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714240" y="1643040"/>
                <a:ext cx="19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3"/>
          <p:cNvSpPr/>
          <p:nvPr/>
        </p:nvSpPr>
        <p:spPr>
          <a:xfrm>
            <a:off x="1143000" y="5143680"/>
            <a:ext cx="19288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1643040"/>
            <a:ext cx="22860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42120" y="330840"/>
            <a:ext cx="51739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корость т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механического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714240" y="1666800"/>
                <a:ext cx="1928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Содержимое 10"/>
              <p:cNvSpPr txBox="1"/>
              <p:nvPr/>
            </p:nvSpPr>
            <p:spPr>
              <a:xfrm>
                <a:off x="2913120" y="1785960"/>
                <a:ext cx="1928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71680" y="3214800"/>
                <a:ext cx="59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0040" y="3714840"/>
                <a:ext cx="63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573120" y="4143240"/>
                <a:ext cx="492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200240" y="5143680"/>
                <a:ext cx="1657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0"/>
          <p:cNvSpPr/>
          <p:nvPr/>
        </p:nvSpPr>
        <p:spPr>
          <a:xfrm>
            <a:off x="357120" y="1571760"/>
            <a:ext cx="40719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428760" y="1571760"/>
            <a:ext cx="3929040" cy="7855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4643280" y="1571760"/>
            <a:ext cx="41436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кон сохранения импуль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676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екторная сумма (геометрическая) импульсов тел в замкнутой системе остается величиной постоя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Narrow"/>
              </a:rPr>
              <a:t>Закон можно применять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а) если  равнодействующая внешних сил равна нул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б) для проекции на какую-либо ось, если проекция равнодействующей на эту ось равна нул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28760" y="1714680"/>
                <a:ext cx="3944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закона сохранения импуль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Закон сохранения импульса при стрельбе из орудия.avi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з истории реактивного дви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51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Первые пороховые фейерверочные и сигнальные ракеты были применены в Китае в 10 век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В 18 веке при ведении боевых действий между Индией и Англией, а также в Русско-турецких войнах были использованы боевые рак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class-fizika.narod.ru/9_class/19/k09.gif"/>
          <p:cNvPicPr/>
          <p:nvPr/>
        </p:nvPicPr>
        <p:blipFill>
          <a:blip r:embed="rId1"/>
          <a:stretch/>
        </p:blipFill>
        <p:spPr>
          <a:xfrm>
            <a:off x="5929200" y="2428920"/>
            <a:ext cx="2048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51960" y="338040"/>
            <a:ext cx="6539400" cy="96696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Живые рак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114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Реактивное движение, используемое ныне в самолетах, ракетах и космических снарядах, свойственно осьминогам, кальмарам, каракатицам, медузам – все они, без исключения, используют для плавания реакцию (отдачу) выбрасываемой стру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kireas.org/images/octop91.jpg"/>
          <p:cNvPicPr/>
          <p:nvPr/>
        </p:nvPicPr>
        <p:blipFill>
          <a:blip r:embed="rId1"/>
          <a:stretch/>
        </p:blipFill>
        <p:spPr>
          <a:xfrm>
            <a:off x="4714920" y="157176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timpul.md/uploads/modules/news/2010/10/17022/658x0_caracattita.jpg"/>
          <p:cNvPicPr/>
          <p:nvPr/>
        </p:nvPicPr>
        <p:blipFill>
          <a:blip r:embed="rId2"/>
          <a:stretch/>
        </p:blipFill>
        <p:spPr>
          <a:xfrm>
            <a:off x="6000840" y="3929040"/>
            <a:ext cx="2786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98840" y="330840"/>
            <a:ext cx="58885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 мире раст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В южных странах ( и у нас на побережье Черного моря тоже) произрастает растение под названием "бешеный огурец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Стреляет бешеный огурец (иначе его называют «дамский пистолет») более чем на 1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class-fizika.narod.ru/9_class/19/1.jpg"/>
          <p:cNvPicPr/>
          <p:nvPr/>
        </p:nvPicPr>
        <p:blipFill>
          <a:blip r:embed="rId1"/>
          <a:stretch/>
        </p:blipFill>
        <p:spPr>
          <a:xfrm>
            <a:off x="4857840" y="2928960"/>
            <a:ext cx="354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5:13:09Z</dcterms:created>
  <dc:creator>Тятьяна</dc:creator>
  <dc:description/>
  <dc:language>en-US</dc:language>
  <cp:lastModifiedBy>Тятьяна</cp:lastModifiedBy>
  <dcterms:modified xsi:type="dcterms:W3CDTF">2013-10-31T22:52:58Z</dcterms:modified>
  <cp:revision>40</cp:revision>
  <dc:subject/>
  <dc:title>Слайд 1</dc:title>
</cp:coreProperties>
</file>